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6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37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38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71C-5206-44C6-A1E2-E1295508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7AB-ED10-4CBF-A840-2E78694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245-E6CD-461F-97DB-A6B9F2FB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5B9-9BC5-43C3-BC85-83E38CA1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9B7-F280-4769-9F54-C8E10661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004-9884-45FD-8A58-A47C97D3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189-06B4-4F0D-8E85-5946498F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590-1A68-4C6A-A191-F5EAE715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E6E-C260-41CC-9EF5-7377513D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8B6-4235-41FD-AD02-EE65BFC8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61C-A089-4B98-BB69-41430DF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B62-DECC-4DD9-8124-08970E6A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3697-F5BF-48F1-8B40-BEE75D568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68360" y="571680"/>
            <a:ext cx="828036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Comic Sans MS"/>
              </a:rPr>
              <a:t>The first 50 of the 200 most important words for learning to read and write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ft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1584360"/>
            <a:ext cx="86421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0" spc="-1" strike="noStrike">
                <a:solidFill>
                  <a:srgbClr val="000000"/>
                </a:solidFill>
                <a:latin typeface="Comic Sans MS"/>
              </a:rPr>
              <a:t>an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0" spc="-1" strike="noStrike">
                <a:solidFill>
                  <a:srgbClr val="000000"/>
                </a:solidFill>
                <a:latin typeface="Comic Sans MS"/>
              </a:rPr>
              <a:t>beca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r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o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r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n’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t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o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r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m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e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n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m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r</a:t>
            </a: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.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c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an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choo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t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g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t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s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012000" y="119700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0000"/>
                </a:solidFill>
                <a:latin typeface="FoundationBold"/>
              </a:rPr>
              <a:t>Read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l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12000" y="278136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00"/>
                </a:solidFill>
                <a:latin typeface="FoundationBold"/>
              </a:rPr>
              <a:t>Se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b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12000" y="436572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9900"/>
                </a:solidFill>
                <a:latin typeface="FoundationBold"/>
              </a:rPr>
              <a:t>G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50920" y="1557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e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d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e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v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igh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w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6:31:31Z</dcterms:created>
  <dc:creator>Darryl &amp; Michelle Martin</dc:creator>
  <dc:description/>
  <dc:language>en-US</dc:language>
  <cp:lastModifiedBy>liane smith</cp:lastModifiedBy>
  <dcterms:modified xsi:type="dcterms:W3CDTF">2009-06-02T11:30:12Z</dcterms:modified>
  <cp:revision>12</cp:revision>
  <dc:subject/>
  <dc:title>Slide 1</dc:title>
</cp:coreProperties>
</file>