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3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BD5-9FC6-4AC8-9782-3703CCAE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4E6-3B91-433D-BC6F-39F0946B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826-0F9A-435F-8673-70197741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3F0-AEF5-4584-814B-69128212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63A-1FB3-449D-9E21-5C040A96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FF8-0959-4505-9EDF-09C263C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2B6-0E82-4B9E-9800-561FA12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D41-A8CE-47DA-A79F-09D5C49A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5CB-8DB2-4317-9C6F-1A739C9E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3EB-49EF-4B53-8B85-57DAAC04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562-1CAF-49DD-B2E0-510C1A9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EAB-607D-47FD-BD76-5073EC1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7319-F46D-41BF-957E-1F7DC6C6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68360" y="571680"/>
            <a:ext cx="828036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Comic Sans MS"/>
              </a:rPr>
              <a:t>The first 50 of the 200 most important words for learning to read and write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1584360"/>
            <a:ext cx="86421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0" spc="-1" strike="noStrike">
                <a:solidFill>
                  <a:srgbClr val="000000"/>
                </a:solidFill>
                <a:latin typeface="Comic Sans MS"/>
              </a:rPr>
              <a:t>an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0" spc="-1" strike="noStrike">
                <a:solidFill>
                  <a:srgbClr val="000000"/>
                </a:solidFill>
                <a:latin typeface="Comic Sans MS"/>
              </a:rPr>
              <a:t>beca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r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o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r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t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o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m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e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n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m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r</a:t>
            </a: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.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c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an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choo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t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g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t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s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12000" y="1197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0000"/>
                </a:solidFill>
                <a:latin typeface="FoundationBold"/>
              </a:rPr>
              <a:t>Read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l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12000" y="278136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FoundationBold"/>
              </a:rPr>
              <a:t>Se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12000" y="436572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9900"/>
                </a:solidFill>
                <a:latin typeface="FoundationBold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50920" y="1557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e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e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igh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6:31:31Z</dcterms:created>
  <dc:creator>Darryl &amp; Michelle Martin</dc:creator>
  <dc:description/>
  <dc:language>en-US</dc:language>
  <cp:lastModifiedBy>liane smith</cp:lastModifiedBy>
  <dcterms:modified xsi:type="dcterms:W3CDTF">2009-06-02T11:30:12Z</dcterms:modified>
  <cp:revision>12</cp:revision>
  <dc:subject/>
  <dc:title>Slide 1</dc:title>
</cp:coreProperties>
</file>