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6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37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38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1F5-5D31-4C4E-A134-4E33384B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A0F-6E03-4127-AE78-CE6B9A0A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E31-679C-4959-95FA-E4B49D3B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9A1-18C0-432A-80A9-0DE5EFB8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DF8-7942-4135-B40A-E4F789F1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BD3-12D2-48FF-8E28-8FBA9396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D9F-BAC9-4159-8CEA-E78D6F72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24E-0B21-456C-B87A-0E8E0D09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7FB-A022-462D-AEE6-D5640F18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7CE-B599-4D50-BD84-D5C735F6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361-FF45-400F-8288-6F5E3DE4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2F1-B1E1-4D9B-A364-E352E777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5F29-79EE-4E0A-9B2E-16040023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68360" y="571680"/>
            <a:ext cx="828036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Comic Sans MS"/>
              </a:rPr>
              <a:t>The first 50 of the 200 most important words for learning to read and write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ft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1584360"/>
            <a:ext cx="86421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0" spc="-1" strike="noStrike">
                <a:solidFill>
                  <a:srgbClr val="000000"/>
                </a:solidFill>
                <a:latin typeface="Comic Sans MS"/>
              </a:rPr>
              <a:t>an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0" spc="-1" strike="noStrike">
                <a:solidFill>
                  <a:srgbClr val="000000"/>
                </a:solidFill>
                <a:latin typeface="Comic Sans MS"/>
              </a:rPr>
              <a:t>beca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r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o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r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n’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t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o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r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m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e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n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m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r</a:t>
            </a: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.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c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an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choo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t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g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t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s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012000" y="119700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0000"/>
                </a:solidFill>
                <a:latin typeface="FoundationBold"/>
              </a:rPr>
              <a:t>Read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l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12000" y="278136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00"/>
                </a:solidFill>
                <a:latin typeface="FoundationBold"/>
              </a:rPr>
              <a:t>Se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b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12000" y="436572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9900"/>
                </a:solidFill>
                <a:latin typeface="FoundationBold"/>
              </a:rPr>
              <a:t>G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50920" y="1557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e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d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e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v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igh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w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6:31:31Z</dcterms:created>
  <dc:creator>Darryl &amp; Michelle Martin</dc:creator>
  <dc:description/>
  <dc:language>en-US</dc:language>
  <cp:lastModifiedBy>liane smith</cp:lastModifiedBy>
  <dcterms:modified xsi:type="dcterms:W3CDTF">2009-06-02T11:30:12Z</dcterms:modified>
  <cp:revision>12</cp:revision>
  <dc:subject/>
  <dc:title>Slide 1</dc:title>
</cp:coreProperties>
</file>