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156.xml.rels" ContentType="application/vnd.openxmlformats-package.relationships+xml"/>
  <Override PartName="/ppt/slides/_rels/slide13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5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17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6.xml.rels" ContentType="application/vnd.openxmlformats-package.relationships+xml"/>
  <Override PartName="/ppt/slides/_rels/slide190.xml.rels" ContentType="application/vnd.openxmlformats-package.relationships+xml"/>
  <Override PartName="/ppt/slides/_rels/slide18.xml.rels" ContentType="application/vnd.openxmlformats-package.relationships+xml"/>
  <Override PartName="/ppt/slides/_rels/slide120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170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98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6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27.xml.rels" ContentType="application/vnd.openxmlformats-package.relationships+xml"/>
  <Override PartName="/ppt/slides/_rels/slide199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137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9.xml.rels" ContentType="application/vnd.openxmlformats-package.relationships+xml"/>
  <Override PartName="/ppt/slides/_rels/slide178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0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38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158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8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DCAB-D791-4BC1-AE09-F6FCA3EE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E860-C794-489D-BF79-A8B8263A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749-34F1-44E5-9B5B-F49DA933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D72-B53B-4BA2-85C9-DF9F7DC6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C89-2BEC-471A-BFD4-3402B3AD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9B3-C7E8-49DE-B216-8D42275D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AC19-3A74-4234-8A14-A55762DA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43C0-D33A-4147-A765-E7FF605E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F5C-6F80-4288-BF11-940A6079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212-AE20-46B1-B665-C17DD277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6E0-574C-48F1-B55C-7ED2BB2D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A48-1772-49E3-92F3-7BBCF801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9D34-1679-4EAC-9049-D496A0331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468360" y="571680"/>
            <a:ext cx="8280360" cy="72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Comic Sans MS"/>
              </a:rPr>
              <a:t>The first 50 of the 200 most important words for learning to read and write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ic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i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you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ft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gai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lway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50920" y="1584360"/>
            <a:ext cx="864216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0" spc="-1" strike="noStrike">
                <a:solidFill>
                  <a:srgbClr val="000000"/>
                </a:solidFill>
                <a:latin typeface="Comic Sans MS"/>
              </a:rPr>
              <a:t>ano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s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0" spc="-1" strike="noStrike">
                <a:solidFill>
                  <a:srgbClr val="000000"/>
                </a:solidFill>
                <a:latin typeface="Comic Sans MS"/>
              </a:rPr>
              <a:t>becau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ir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lac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lu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o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f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ri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n’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ever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a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a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a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e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at</a:t>
            </a:r>
            <a:r>
              <a:rPr b="1" lang="en-US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i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i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ly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ou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ou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a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ir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i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i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o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re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o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ou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o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jum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kee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kno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a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ef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es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et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i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o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n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a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en</a:t>
            </a:r>
            <a:r>
              <a:rPr b="1" lang="en-US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0" spc="-1" strike="noStrike">
                <a:solidFill>
                  <a:srgbClr val="000000"/>
                </a:solidFill>
                <a:latin typeface="Comic Sans MS"/>
              </a:rPr>
              <a:t>mo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r</a:t>
            </a:r>
            <a:r>
              <a:rPr b="0" lang="en-AU" sz="20000" spc="-1" strike="noStrike">
                <a:solidFill>
                  <a:srgbClr val="000000"/>
                </a:solidFill>
                <a:latin typeface="FoundationBold"/>
              </a:rPr>
              <a:t>.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c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w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p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an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e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e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oo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ou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u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choo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hou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in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i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oo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te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ak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e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ing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in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re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i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o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re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nd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s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ver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it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is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3059280" y="907920"/>
            <a:ext cx="2736720" cy="489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Oval 5"/>
          <p:cNvSpPr/>
          <p:nvPr/>
        </p:nvSpPr>
        <p:spPr>
          <a:xfrm>
            <a:off x="3851280" y="1268280"/>
            <a:ext cx="1081080" cy="1079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851280" y="2781360"/>
            <a:ext cx="10810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Oval 7"/>
          <p:cNvSpPr/>
          <p:nvPr/>
        </p:nvSpPr>
        <p:spPr>
          <a:xfrm>
            <a:off x="3851280" y="4294080"/>
            <a:ext cx="1081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6012000" y="119700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0000"/>
                </a:solidFill>
                <a:latin typeface="FoundationBold"/>
              </a:rPr>
              <a:t>Read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or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ou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yea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l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v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i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i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059280" y="907920"/>
            <a:ext cx="2736720" cy="489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Oval 3"/>
          <p:cNvSpPr/>
          <p:nvPr/>
        </p:nvSpPr>
        <p:spPr>
          <a:xfrm>
            <a:off x="3851280" y="1268280"/>
            <a:ext cx="108108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Oval 4"/>
          <p:cNvSpPr/>
          <p:nvPr/>
        </p:nvSpPr>
        <p:spPr>
          <a:xfrm>
            <a:off x="3851280" y="2781360"/>
            <a:ext cx="1081080" cy="107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Oval 5"/>
          <p:cNvSpPr/>
          <p:nvPr/>
        </p:nvSpPr>
        <p:spPr>
          <a:xfrm>
            <a:off x="3851280" y="4294080"/>
            <a:ext cx="1081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012000" y="278136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00"/>
                </a:solidFill>
                <a:latin typeface="FoundationBold"/>
              </a:rPr>
              <a:t>Se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ai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bo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ac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059280" y="907920"/>
            <a:ext cx="2736720" cy="489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Oval 3"/>
          <p:cNvSpPr/>
          <p:nvPr/>
        </p:nvSpPr>
        <p:spPr>
          <a:xfrm>
            <a:off x="3851280" y="1268280"/>
            <a:ext cx="108108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Oval 4"/>
          <p:cNvSpPr/>
          <p:nvPr/>
        </p:nvSpPr>
        <p:spPr>
          <a:xfrm>
            <a:off x="3851280" y="2781360"/>
            <a:ext cx="1081080" cy="107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Oval 5"/>
          <p:cNvSpPr/>
          <p:nvPr/>
        </p:nvSpPr>
        <p:spPr>
          <a:xfrm>
            <a:off x="3851280" y="4294080"/>
            <a:ext cx="1081080" cy="1079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012000" y="436572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009900"/>
                </a:solidFill>
                <a:latin typeface="FoundationBold"/>
              </a:rPr>
              <a:t>G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ig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b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o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cou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i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50920" y="1557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dow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ir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fro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e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g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a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nt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ju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ik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ittl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d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ak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o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FoundationBold"/>
              </a:rPr>
              <a:t>much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h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FoundationBold"/>
              </a:rPr>
              <a:t>mus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m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e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now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ff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ld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nly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u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th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u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ove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righ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e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h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som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ir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m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i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his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two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up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ll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n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ere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at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50920" y="1584360"/>
            <a:ext cx="864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1" lang="en-US" sz="20000" spc="-1" strike="noStrike">
                <a:solidFill>
                  <a:srgbClr val="000000"/>
                </a:solidFill>
                <a:latin typeface="FoundationBold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06:31:31Z</dcterms:created>
  <dc:creator>Darryl &amp; Michelle Martin</dc:creator>
  <dc:description/>
  <dc:language>en-US</dc:language>
  <cp:lastModifiedBy>liane smith</cp:lastModifiedBy>
  <dcterms:modified xsi:type="dcterms:W3CDTF">2009-06-02T11:30:12Z</dcterms:modified>
  <cp:revision>12</cp:revision>
  <dc:subject/>
  <dc:title>Slide 1</dc:title>
</cp:coreProperties>
</file>