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156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20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0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6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137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0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38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15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9EB-4B38-4B02-B596-17646B45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511-439C-4CE5-A97D-33A1FF31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412-DE32-4CBA-9E56-1463B184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F7E-D86A-4169-9EE4-31AF4833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655-4590-407B-AEE0-18BFE544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A39-6372-4CEC-BFEC-B6EB697E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EDF-AC7E-423F-B71A-5909A3A9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2DA-D388-45F9-8974-8B817CB5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177-DCDD-480A-B7FE-A3B545B3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FBE-D5B6-48B0-87CA-3D969FDD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778-A8B2-460A-8663-7E409492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5DB-2A43-46C4-9B43-DB69D952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B450-9672-4A71-A442-E2719E2A3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468360" y="571680"/>
            <a:ext cx="8280360" cy="72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Comic Sans MS"/>
              </a:rPr>
              <a:t>The first 50 of the 200 most important words for learning to read and write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ic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ft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gai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lway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50920" y="1584360"/>
            <a:ext cx="86421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0" spc="-1" strike="noStrike">
                <a:solidFill>
                  <a:srgbClr val="000000"/>
                </a:solidFill>
                <a:latin typeface="Comic Sans MS"/>
              </a:rPr>
              <a:t>an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s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0" spc="-1" strike="noStrike">
                <a:solidFill>
                  <a:srgbClr val="000000"/>
                </a:solidFill>
                <a:latin typeface="Comic Sans MS"/>
              </a:rPr>
              <a:t>beca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ir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lac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lu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o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r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n’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ever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at</a:t>
            </a:r>
            <a:r>
              <a:rPr b="1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ly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u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ir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o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re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jum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kee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kn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a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f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o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n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en</a:t>
            </a:r>
            <a:r>
              <a:rPr b="1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0" spc="-1" strike="noStrike">
                <a:solidFill>
                  <a:srgbClr val="000000"/>
                </a:solidFill>
                <a:latin typeface="Comic Sans MS"/>
              </a:rPr>
              <a:t>m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r</a:t>
            </a: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.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c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w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p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an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e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e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oo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ou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u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choo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h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i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o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te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a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ng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n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o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r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nd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ver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it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s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Oval 5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Oval 7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012000" y="119700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0000"/>
                </a:solidFill>
                <a:latin typeface="FoundationBold"/>
              </a:rPr>
              <a:t>Read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or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ea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l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i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Oval 3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Oval 4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012000" y="278136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00"/>
                </a:solidFill>
                <a:latin typeface="FoundationBold"/>
              </a:rPr>
              <a:t>Se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i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bo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ac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Oval 3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4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Oval 5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012000" y="436572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9900"/>
                </a:solidFill>
                <a:latin typeface="FoundationBold"/>
              </a:rPr>
              <a:t>G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50920" y="1557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e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nt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ttl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d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o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muc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mu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e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f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v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igh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i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w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06:31:31Z</dcterms:created>
  <dc:creator>Darryl &amp; Michelle Martin</dc:creator>
  <dc:description/>
  <dc:language>en-US</dc:language>
  <cp:lastModifiedBy>liane smith</cp:lastModifiedBy>
  <dcterms:modified xsi:type="dcterms:W3CDTF">2009-06-02T11:30:12Z</dcterms:modified>
  <cp:revision>12</cp:revision>
  <dc:subject/>
  <dc:title>Slide 1</dc:title>
</cp:coreProperties>
</file>